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161-2EC5-4D42-B902-B032088F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FFC-3244-44B4-97C2-99517731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DD2-32CC-4047-BD06-EF2FB01B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6C5-186B-45C0-BC5D-81F3B85F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DFB7B-E2C2-4B1A-AD6F-7AACECFE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A397-2DA3-48FF-AD18-1615CF2F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8188A-E6FC-44BE-928F-BCD885D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9DD6E-E602-48CE-A86F-5F54B5AE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4EB42-7C24-484D-A294-39E7B7C1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1EBC4-2388-4B42-8C5E-2FEF24E7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F7A79-7245-4552-8B61-4B69F343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757-2573-4A27-8D55-FC8118D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89D72-5B9C-4474-9EC9-7C95102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AD129-7EE0-472B-BD0B-7CE85CF3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01E70-4920-4856-8331-6052BE65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69069-1298-4B2B-A304-D6A0A825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D438A-99E1-4B8D-B03D-E2E6B162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8E4-E790-447E-9651-68511318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FD9-2EA4-4D96-A6D8-9F29F17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951-FAE8-485D-834F-D3543EFE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CB9D-1028-44F4-9316-D89C0A9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1DC-3BE9-48E7-9C84-038A687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F06-B9A0-4A47-A3B6-49D828A5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753-6DF4-4593-B7C2-1FC81143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E8E5-73E4-4A0B-BF56-731020D13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0C69-740F-48B9-801F-5D589D225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2920" y="1341000"/>
            <a:ext cx="6481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Ж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Ланд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Лы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ж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М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ш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80024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48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819000"/>
            <a:ext cx="56883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ежи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ож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вш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м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0:02:01Z</dcterms:created>
  <dc:creator>Владелец</dc:creator>
  <dc:description/>
  <dc:language>en-US</dc:language>
  <cp:lastModifiedBy>Владелец</cp:lastModifiedBy>
  <dcterms:modified xsi:type="dcterms:W3CDTF">2013-04-21T01:02:18Z</dcterms:modified>
  <cp:revision>2</cp:revision>
  <dc:subject/>
  <dc:title> </dc:title>
</cp:coreProperties>
</file>